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5560" cy="39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278240" y="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27788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542BC-E826-4FD1-89A8-C5EEB92A0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5314C-7711-4FF0-877C-CF812D5914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F3C4D-91E6-4BD2-9AA3-BDA5848C80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674D6-6064-4CAA-8C93-75472E05788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AE516-6E4E-4C58-8546-E09A5AD463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607A5-2FF9-47BB-95CA-9861963575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9CE51-B61A-47B1-8696-BD1E97D337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281480" y="0"/>
            <a:ext cx="32767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CF353-1C66-4B06-98AC-3F5B179317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F6562-C2AE-4B21-8B79-8408C7B989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338120" y="1069920"/>
            <a:ext cx="4883400" cy="36640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52360" y="5089320"/>
            <a:ext cx="5259600" cy="48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0C8B2-DF42-4FB1-A162-03863DF85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65B37-13FE-41E2-B1D8-BEE83AADD9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4278240" y="10155240"/>
            <a:ext cx="3272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F28E3-509E-42AE-982E-894F707B2D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D98A5-6D98-4F7E-8CB1-4795A72FC0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724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1920" y="176832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724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1920" y="4369680"/>
            <a:ext cx="29181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300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6920" y="436968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1768320"/>
            <a:ext cx="44226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300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indent="0">
              <a:lnSpc>
                <a:spcPct val="8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300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56520" bIns="0" anchor="t">
            <a:normAutofit/>
          </a:bodyPr>
          <a:p>
            <a:pPr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60360" y="1227240"/>
            <a:ext cx="468000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1539720" y="0"/>
            <a:ext cx="85410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Разговор с родителям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754520" y="3065400"/>
            <a:ext cx="4572000" cy="41403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682560" y="1851120"/>
            <a:ext cx="42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ЧТО ДЕЛАТЬ, ЕСЛИ ВАШ РЕБЕНОК УПОТРЕБЛЯЕТ НАРКОТИК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708120" y="892080"/>
            <a:ext cx="858528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отчаивайтесь! Выход есть. Необходимо срочно обратиться к наркологу. Чем раньше начато лечение, тем лучше результат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енок болен наркоманией, надо идти к специалисту, сам он не выберется. Он уже зависит не от себя, а от наркотик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544680" y="741240"/>
            <a:ext cx="89247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ь соприкоснуться с наркотиками появилась, и подросток только что попробовал их. Излишняя реакция родителей может иметь обратное действие и привлечь внимание и интерес к дальнейшему употреблению наркотиков. Не паникуйт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тите внимание на следующие признак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зкая смена друзей, прежние увлечения больше не интересуют, человек становится замкнутым, скрытны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асто раздражен, агрессивен, проявляет беспокойство без видимых причин, рвется на улицу к друзь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братите внимание на чрезмерную веселость пли сонливость, безразличие ко всем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покраснение, либо бледность кожных покровов зуд кожи лица, особенно кончика носа и за уш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чень узкие, точечные зрачки, либо расширен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текленелый, «туманный» взгляд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человек меньше уделяет внимание своей внеш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карманные расходы возрастают, а из дома начинают пропадать вещи.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Если подросток попробовал наркотик, это еще не значит, что он стал наркомано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испансерно-поликлиническое отделение оказывает наркологическую, психологическую консультативную  помощь  семьям детей и подростков столкнувшихся с проблемами употребления ПАВ. Обратиться можно по адресу: г. Новотроицк, ул. Черемных 13,каб 120. Получить более подробную информацию можно позвонив по номеру телефона: 8(3537)684048, 6840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1-06T10:53:06Z</dcterms:modified>
  <cp:revision>30</cp:revision>
  <dc:subject/>
  <dc:title>Слайд 1</dc:title>
</cp:coreProperties>
</file>