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82382-C927-49E1-9DD7-3CF2B20BE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D9F6E-2A01-4E41-B4AA-6760AD47A9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A7DCA-E4AF-422D-AF94-D3DB01E852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2D547-8CBF-4CB4-B2FC-BC6772EDD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DF62C-F62F-42BF-936A-DF7A525F0A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38120" y="1069920"/>
            <a:ext cx="4883400" cy="36640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3B757-FE8A-4ECB-89E7-5AD9ECE8DD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EF8AC-954E-4640-9879-2E081D44B5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2859C-5FB3-4E8D-885F-4D93E9F146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9A261-4BCE-4196-A8FE-53BC7B1344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38120" y="1069920"/>
            <a:ext cx="4883400" cy="36640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AF602-352B-48A9-B4AB-EDE09BFABB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558F9-D547-4A9D-A3FF-109C12FDDB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43E24-B9B7-43CF-8EBB-6DD9E9DA76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57331-FC35-487E-A150-524ACDB32B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30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6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36968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1920" y="436968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300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6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30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60360" y="1227240"/>
            <a:ext cx="468000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539720" y="0"/>
            <a:ext cx="8541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говор с родителям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754520" y="3065400"/>
            <a:ext cx="4572000" cy="4140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82560" y="1851120"/>
            <a:ext cx="421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ДЕЛАТЬ, ЕСЛИ ВАШ РЕБЕНОК УПОТРЕБЛЯЕТ НАРКОТИ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708120" y="892080"/>
            <a:ext cx="8585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отчаивайтесь! Выход есть. Необходимо срочно обратиться к наркологу. Чем раньше начато лечение, тем лучше результа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ребенок болен наркоманией, надо идти к специалисту, сам он не выберется. Он уже зависит не от себя, а от наркоти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44680" y="741240"/>
            <a:ext cx="89247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можность соприкоснуться с наркотиками появилась, и подросток только что попробовал их. Излишняя реакция родителей может иметь обратное действие и привлечь внимание и интерес к дальнейшему употреблению наркотиков. Не паникуй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те внимание на следующие призна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езкая смена друзей, прежние увлечения больше не интересуют, человек становится замкнутым, скрытны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часто раздражен, агрессивен, проявляет беспокойство без видимых причин, рвется на улицу к друзь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ратите внимание на чрезмерную веселость пли сонливость, безразличие ко всем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покраснение, либо бледность кожных покровов зуд кожи лица, особенно кончика носа и за уш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чень узкие, точечные зрачки, либо расширенн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стекленелый, «туманный» взгля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человек меньше уделяет внимание своей внеш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рманные расходы возрастают, а из дома начинают пропадать вещи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Если подросток попробовал наркотик, это еще не значит, что он стал наркоманом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пансерно-поликлиническое отделение оказывает наркологическую, психологическую консультативную  помощь  семьям детей и подростков столкнувшихся с проблемами употребления ПАВ. Обратиться можно по адресу: г. Новотроицк, ул. Черемных 13,каб 120. Получить более подробную информацию можно позвонив по номеру телефона: 8(3537)684048, 6840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06T10:53:06Z</dcterms:modified>
  <cp:revision>30</cp:revision>
  <dc:subject/>
  <dc:title>Слайд 1</dc:title>
</cp:coreProperties>
</file>