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4C2B7-7684-4482-93DD-E5F25DDA8F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7E6BE-078A-48C3-9EEC-3CCEB27CC1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39C6E-2649-4099-B805-936C7F0E5A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281480" y="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1E927-DE90-4A9E-A4F0-FE834D6954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6BA09-80F3-4C02-8FD8-2A746CF550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38120" y="1069920"/>
            <a:ext cx="4883400" cy="36640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F5268-62DA-4625-81B8-90B9EC5438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23303-6D61-4B5F-AA92-B1465C9774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281480" y="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D3921-6F10-48BD-87DF-95B01F39CB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125C0-D7F4-40D4-B108-D8DE7D9675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38120" y="1069920"/>
            <a:ext cx="4883400" cy="36640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EECDC-9B0E-4170-91A1-415A259B58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D918E-2AD9-44DD-A028-67A87A7579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5BF84-F9F8-40B0-AB9E-88FA2FBADF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2D5A9-951F-4330-93E3-0FA2289CED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30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6920" y="436968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36968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1920" y="436968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300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6920" y="436968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30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60360" y="1227240"/>
            <a:ext cx="468000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539720" y="0"/>
            <a:ext cx="85410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говор с родителям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754520" y="3065400"/>
            <a:ext cx="4572000" cy="41403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82560" y="1851120"/>
            <a:ext cx="421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ДЕЛАТЬ, ЕСЛИ ВАШ РЕБЕНОК УПОТРЕБЛЯЕТ НАРКОТИ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708120" y="892080"/>
            <a:ext cx="8585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отчаивайтесь! Выход есть. Необходимо срочно обратиться к наркологу. Чем раньше начато лечение, тем лучше результа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ребенок болен наркоманией, надо идти к специалисту, сам он не выберется. Он уже зависит не от себя, а от наркоти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544680" y="741240"/>
            <a:ext cx="89247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зможность соприкоснуться с наркотиками появилась, и подросток только что попробовал их. Излишняя реакция родителей может иметь обратное действие и привлечь внимание и интерес к дальнейшему употреблению наркотиков. Не паникуй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те внимание на следующие призна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езкая смена друзей, прежние увлечения больше не интересуют, человек становится замкнутым, скрытны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часто раздражен, агрессивен, проявляет беспокойство без видимых причин, рвется на улицу к друзь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обратите внимание на чрезмерную веселость пли сонливость, безразличие ко всем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покраснение, либо бледность кожных покровов зуд кожи лица, особенно кончика носа и за уш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чень узкие, точечные зрачки, либо расширенны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стекленелый, «туманный» взгля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человек меньше уделяет внимание своей внеш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арманные расходы возрастают, а из дома начинают пропадать вещи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Если подросток попробовал наркотик, это еще не значит, что он стал наркоманом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спансерно-поликлиническое отделение оказывает наркологическую, психологическую консультативную  помощь  семьям детей и подростков столкнувшихся с проблемами употребления ПАВ. Обратиться можно по адресу: г. Новотроицк, ул. Черемных 13,каб 120. Получить более подробную информацию можно позвонив по номеру телефона: 8(3537)684048, 6840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1-06T10:53:06Z</dcterms:modified>
  <cp:revision>30</cp:revision>
  <dc:subject/>
  <dc:title>Слайд 1</dc:title>
</cp:coreProperties>
</file>